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comments/comment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pilabre fatimata" initials="pf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<Relationship Id="rId21" Type="http://schemas.openxmlformats.org/officeDocument/2006/relationships/commentAuthors" Target="commentAuthors.xml"/>
</Relationships>
</file>

<file path=ppt/comments/comment9.xml><?xml version="1.0" encoding="utf-8"?>
<p:cmLst xmlns:p="http://schemas.openxmlformats.org/presentationml/2006/main">
  <p:cm authorId="0" dt="2015-06-01T09:41:51.001000000" idx="1">
    <p:pos x="10" y="10"/>
    <p:text/>
  </p:cm>
  <p:cm authorId="0" dt="2015-06-01T09:48:16.910000000" idx="2">
    <p:pos x="10" y="106"/>
    <p:text>Je crois que nous avons mal placé ce dia. peut on ajouter méthodologie dans le titre du dia sinon il vient se placer au mielieu des dia méthodologie 1/2, 2/2  sans être titré métho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1428D-78BD-4D7C-8AF2-47F9D8F889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’expérience du DS de Sebba qui est appuyée par Help et avec le soutien de l’Université de Montréal pour les aspects scientifiqu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5A910-55A1-4F4E-9C01-B049E81CD6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 demande DS Dori de passer au F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 Habitudes de prescriptions non changées (nombre moyen de molécules par ordonnance est de 2,5): parce que les contrôles ont été réalisés (médical et financi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69FF8-2ED5-469A-8566-CAC5437666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aut : effet immédiat (à l’introduction de l’intervention « FFT ») ET Tendance : effet sur la période (durant la phase étudié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 COMMENTER (L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C9410-D7D9-4D82-8A82-565033F174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 COMMENTER (L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72F2D-62A3-44F9-BB0E-568903B2C1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Enjeux sur le montant forfaitair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ode de calcul :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acteur qui limite le risque financier des prestatai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F7B74-0661-4E51-9A0B-9C2B1173D5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5A297-12AA-42FB-8990-23C86AFE4D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98FDA-E15D-4B36-8DAF-2A85110B635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xemption = équité dans l’accès, filet social (pas de dépenses des ménages en matière de santé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CE779-3FC4-49C5-BDC6-59D9822964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5A7C1-F641-4E10-8C8A-4D366BE066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93CF0-B2AF-4B6B-9680-CCD77138DB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F8B9-D1F8-4C8D-9D39-68F9F51DD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DFEA-16C8-4626-A3F7-CF05C2ACB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F99B-20ED-479D-87DE-7146F9612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3538-32AA-4E05-8EBA-322397769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DADE-8D8D-4102-923C-CA626C46E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2EEB-D58B-4345-AEB7-58DB956E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C119-091E-4C58-AAAD-C35251F8D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0C87-A8FE-4098-9A56-C3632C5C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C655-3EF7-422F-A09B-7C59E61EE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DD63-C614-48A8-AF03-7BCD4454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91A0-E803-46B0-BB84-27C5A76B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032F-FFEE-4EAF-B777-0EBA077F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7BB3F-8B41-4986-8E4D-634956A20B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Graph%20Enfants.pd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050560"/>
            <a:ext cx="7772400" cy="17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L’ exemption du paiement des soins au forfait chez les enfants &lt;5ans </a:t>
            </a:r>
            <a:br>
              <a:rPr sz="4000"/>
            </a:b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DS Sebb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898989"/>
                </a:solidFill>
                <a:latin typeface="Calibri"/>
              </a:rPr>
              <a:t>Atelier technique AMU « Panier de soins, coût et financement »</a:t>
            </a:r>
            <a:br>
              <a:rPr sz="2800"/>
            </a:br>
            <a:r>
              <a:rPr b="1" lang="fr-FR" sz="2400" spc="-1" strike="noStrike">
                <a:solidFill>
                  <a:srgbClr val="898989"/>
                </a:solidFill>
                <a:latin typeface="Calibri"/>
              </a:rPr>
              <a:t>Ouagadougou, les 9 et 10 juin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Image 2" descr="logoHelpFr"/>
          <p:cNvPicPr/>
          <p:nvPr/>
        </p:nvPicPr>
        <p:blipFill>
          <a:blip r:embed="rId1"/>
          <a:srcRect l="2793" t="1343" r="3911" b="2686"/>
          <a:stretch/>
        </p:blipFill>
        <p:spPr>
          <a:xfrm>
            <a:off x="7620120" y="5410080"/>
            <a:ext cx="1154160" cy="990720"/>
          </a:xfrm>
          <a:prstGeom prst="rect">
            <a:avLst/>
          </a:prstGeom>
          <a:ln w="0">
            <a:noFill/>
          </a:ln>
        </p:spPr>
      </p:pic>
      <p:pic>
        <p:nvPicPr>
          <p:cNvPr id="51" name="Image 1" descr="logo_fr_transp_black"/>
          <p:cNvPicPr/>
          <p:nvPr/>
        </p:nvPicPr>
        <p:blipFill>
          <a:blip r:embed="rId2"/>
          <a:stretch/>
        </p:blipFill>
        <p:spPr>
          <a:xfrm>
            <a:off x="7620120" y="380880"/>
            <a:ext cx="1117440" cy="990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" descr="drapeau:Burkina Faso"/>
          <p:cNvPicPr/>
          <p:nvPr/>
        </p:nvPicPr>
        <p:blipFill>
          <a:blip r:embed="rId3"/>
          <a:stretch/>
        </p:blipFill>
        <p:spPr>
          <a:xfrm>
            <a:off x="380880" y="380880"/>
            <a:ext cx="1190880" cy="784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Users\paho\Desktop\Archives_Interim_20150523\RA FFT\Publications\Note Analyse démarche RA\MenP-G\Nvx_Logos_Mai2015\Logo_EQUITE_jpg-RVB_201505.jpg"/>
          <p:cNvPicPr/>
          <p:nvPr/>
        </p:nvPicPr>
        <p:blipFill>
          <a:blip r:embed="rId4"/>
          <a:stretch/>
        </p:blipFill>
        <p:spPr>
          <a:xfrm>
            <a:off x="3352680" y="5410080"/>
            <a:ext cx="2286000" cy="1089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" descr="armoirie_BF"/>
          <p:cNvPicPr/>
          <p:nvPr/>
        </p:nvPicPr>
        <p:blipFill>
          <a:blip r:embed="rId5"/>
          <a:stretch/>
        </p:blipFill>
        <p:spPr>
          <a:xfrm>
            <a:off x="1136520" y="5297400"/>
            <a:ext cx="836640" cy="9511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990720" y="6313320"/>
            <a:ext cx="1137960" cy="19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MINISTERE DE LA SAN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Résultats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51920" y="914400"/>
            <a:ext cx="89917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faisabilité du paiement au forfait est démontré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ertinence du FFT pour l’ensemble des PP (adhésion des F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habitudes de prescriptions non changé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iminution importante de la charge administr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iminution des coûts de gestion de la subvention (suppor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otentiel de maitrise des coûts du paiement au F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Les effets sur les CMM du Gr1</a:t>
            </a:r>
            <a:br>
              <a:rPr sz="4400"/>
            </a:b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(6 CSPS – DS Sebb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20600" y="1314360"/>
            <a:ext cx="8858160" cy="5381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1700280" y="1314360"/>
            <a:ext cx="7304040" cy="957240"/>
          </a:xfrm>
          <a:prstGeom prst="rect">
            <a:avLst/>
          </a:prstGeom>
          <a:ln w="0">
            <a:noFill/>
          </a:ln>
        </p:spPr>
      </p:pic>
      <p:cxnSp>
        <p:nvCxnSpPr>
          <p:cNvPr id="93" name="Straight Arrow Connector 8"/>
          <p:cNvCxnSpPr/>
          <p:nvPr/>
        </p:nvCxnSpPr>
        <p:spPr>
          <a:xfrm>
            <a:off x="4723920" y="3200040"/>
            <a:ext cx="1296360" cy="10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headEnd len="med" type="arrow" w="med"/>
            <a:tailEnd len="med" type="arrow" w="med"/>
          </a:ln>
        </p:spPr>
      </p:cxnSp>
      <p:sp>
        <p:nvSpPr>
          <p:cNvPr id="94" name="TextBox 9"/>
          <p:cNvSpPr/>
          <p:nvPr/>
        </p:nvSpPr>
        <p:spPr>
          <a:xfrm>
            <a:off x="4724280" y="28306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b050"/>
                </a:solidFill>
                <a:latin typeface="Calibri"/>
              </a:rPr>
              <a:t>FFT SR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5" name="Straight Arrow Connector 10"/>
          <p:cNvCxnSpPr/>
          <p:nvPr/>
        </p:nvCxnSpPr>
        <p:spPr>
          <a:xfrm>
            <a:off x="6019920" y="3200040"/>
            <a:ext cx="2591280" cy="10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headEnd len="med" type="arrow" w="med"/>
            <a:tailEnd len="med" type="arrow" w="med"/>
          </a:ln>
        </p:spPr>
      </p:cxnSp>
      <p:sp>
        <p:nvSpPr>
          <p:cNvPr id="96" name="TextBox 11"/>
          <p:cNvSpPr/>
          <p:nvPr/>
        </p:nvSpPr>
        <p:spPr>
          <a:xfrm>
            <a:off x="6095880" y="28954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c000"/>
                </a:solidFill>
                <a:latin typeface="Calibri"/>
              </a:rPr>
              <a:t>FFT AR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c000"/>
                </a:solidFill>
                <a:latin typeface="Calibri"/>
              </a:rPr>
              <a:t>(avec risque financier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Les effets sur les CMM du Gr2</a:t>
            </a:r>
            <a:br>
              <a:rPr sz="4400"/>
            </a:b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(7 CSPS – DS Sebb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76320" y="1271520"/>
            <a:ext cx="8915400" cy="5407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1444680" y="1295280"/>
            <a:ext cx="7547040" cy="1014480"/>
          </a:xfrm>
          <a:prstGeom prst="rect">
            <a:avLst/>
          </a:prstGeom>
          <a:ln w="0">
            <a:noFill/>
          </a:ln>
        </p:spPr>
      </p:pic>
      <p:cxnSp>
        <p:nvCxnSpPr>
          <p:cNvPr id="100" name="Straight Arrow Connector 8"/>
          <p:cNvCxnSpPr/>
          <p:nvPr/>
        </p:nvCxnSpPr>
        <p:spPr>
          <a:xfrm>
            <a:off x="6095520" y="3112560"/>
            <a:ext cx="1296360" cy="10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headEnd len="med" type="arrow" w="med"/>
            <a:tailEnd len="med" type="arrow" w="med"/>
          </a:ln>
        </p:spPr>
      </p:cxnSp>
      <p:sp>
        <p:nvSpPr>
          <p:cNvPr id="101" name="TextBox 9"/>
          <p:cNvSpPr/>
          <p:nvPr/>
        </p:nvSpPr>
        <p:spPr>
          <a:xfrm>
            <a:off x="6095880" y="27432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b050"/>
                </a:solidFill>
                <a:latin typeface="Calibri"/>
              </a:rPr>
              <a:t>FFT SR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2" name="Straight Arrow Connector 12"/>
          <p:cNvCxnSpPr/>
          <p:nvPr/>
        </p:nvCxnSpPr>
        <p:spPr>
          <a:xfrm>
            <a:off x="7467120" y="3112560"/>
            <a:ext cx="1296360" cy="10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headEnd len="med" type="arrow" w="med"/>
            <a:tailEnd len="med" type="arrow" w="med"/>
          </a:ln>
        </p:spPr>
      </p:cxnSp>
      <p:sp>
        <p:nvSpPr>
          <p:cNvPr id="103" name="TextBox 13"/>
          <p:cNvSpPr/>
          <p:nvPr/>
        </p:nvSpPr>
        <p:spPr>
          <a:xfrm>
            <a:off x="7467480" y="27432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c000"/>
                </a:solidFill>
                <a:latin typeface="Calibri"/>
              </a:rPr>
              <a:t>FFT AR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Leçons apprises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mportance des mesures d’accompagnement (formation des AS, filière MEG, supervision, contrôles, etc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ntractualisation très importa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3. Analyse descriptive des CMM (quelque soit le mode de financeme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saisonnalité » des CM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Variabilité intra/inter CSPS des CM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ffets différenciés de l’épidémie de rougeole de 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Conditions de réussi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21896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njeux sur le montant forfaitaire (son calcul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ationalité des prescriptions (pratiques des AS et disponibilité des ME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Nombre d’hospitalisations (rationalisa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bservance des traitements (≠ revisi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mportance des mesures d’accompagnement (formation des AS, filière MEG, supervision, contrôles, etc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emboursement dans les déla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Recommand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référer le FFT vs REEL au regard de ses avant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igueur dans le calcul du montant forfaitair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(méthod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Veille « raisonnable » des coûts réel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(disponibilité, accessibilité et fiabilité des données, méthod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uplesse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(actualisation du FFT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ffectivité du contrôle et de la supervision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(inclus l’utilisation de ses résulta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ntractualiser le partenaria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référer les préfinancement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e l’exemption (pour éviter les retards de rembourseme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MERC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Pl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résentation du DS de Seb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résentation  de l’exem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ntexte – Justif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Méthodologie de mise en œuvre du forfa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ésulta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çons appri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ecommand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Présentation du DS de Sebb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23640" y="928440"/>
            <a:ext cx="83912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ion du district sanitaire : 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210 88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mbre de FS publiques : 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MA: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M: 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SPS: 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pensaires isolés : 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yon moyen d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’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tion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: 12,7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mbre de FS remplissant les normes  minimales en personnel : 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Présentation de l’exem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28240" y="838080"/>
            <a:ext cx="89154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Début: septembre 2008, DS de Dori et Sebb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xemption du paiement des enfants de moins de 5 a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Couverture améliorée donc taux d’utilisation a augmenté (de 0.6 contact/enfant/an à 3.5) entre 2008 et 2012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Taux de mortalité diminué de 17% entre 2008 et 2009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Compilation par mois des ordonnances (800 à 1200 par FS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Remboursement du coût réel des prestations offertes par les FS sur la base d’une facture adressée au tiers payant via le D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Contexte - Just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ffets +++ (…) de la subvention des soins Enfa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5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ventualité d’un « passage à l’échelle » (PàE) de la « gratuité des soins » des Enfa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5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(PNPS, MS et AMU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emboursement au réel complexe à l’échelle nationale ; expérimentation du paiement au « forfait (FFT)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xpériences des AA/SONU B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0320" y="15480"/>
            <a:ext cx="91440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Circuit de remboursement et contrô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Groupe 48"/>
          <p:cNvGrpSpPr/>
          <p:nvPr/>
        </p:nvGrpSpPr>
        <p:grpSpPr>
          <a:xfrm>
            <a:off x="380880" y="1295280"/>
            <a:ext cx="8454960" cy="4889160"/>
            <a:chOff x="380880" y="1295280"/>
            <a:chExt cx="8454960" cy="4889160"/>
          </a:xfrm>
        </p:grpSpPr>
        <p:sp>
          <p:nvSpPr>
            <p:cNvPr id="66" name="Rectangle 3"/>
            <p:cNvSpPr/>
            <p:nvPr/>
          </p:nvSpPr>
          <p:spPr>
            <a:xfrm>
              <a:off x="380880" y="1295280"/>
              <a:ext cx="1752480" cy="1265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Help ( tiers payant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Rectangle 4"/>
            <p:cNvSpPr/>
            <p:nvPr/>
          </p:nvSpPr>
          <p:spPr>
            <a:xfrm>
              <a:off x="6581880" y="1341000"/>
              <a:ext cx="1828800" cy="12794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District sanitai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( ECD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Rectangle 5"/>
            <p:cNvSpPr/>
            <p:nvPr/>
          </p:nvSpPr>
          <p:spPr>
            <a:xfrm>
              <a:off x="3394080" y="4808520"/>
              <a:ext cx="1981080" cy="12952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CSP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(prestataire des soins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9" name="Connecteur droit avec flèche 7"/>
            <p:cNvCxnSpPr/>
            <p:nvPr/>
          </p:nvCxnSpPr>
          <p:spPr>
            <a:xfrm>
              <a:off x="2441160" y="1736280"/>
              <a:ext cx="388692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0" name="Connecteur droit avec flèche 8"/>
            <p:cNvCxnSpPr/>
            <p:nvPr/>
          </p:nvCxnSpPr>
          <p:spPr>
            <a:xfrm flipH="1">
              <a:off x="2459880" y="2449080"/>
              <a:ext cx="38487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1" name="Connecteur droit avec flèche 11"/>
            <p:cNvCxnSpPr>
              <a:endCxn id="67" idx="2"/>
            </p:cNvCxnSpPr>
            <p:nvPr/>
          </p:nvCxnSpPr>
          <p:spPr>
            <a:xfrm flipV="1">
              <a:off x="5329080" y="2620440"/>
              <a:ext cx="2167560" cy="24314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2" name="Connecteur droit avec flèche 12"/>
            <p:cNvCxnSpPr/>
            <p:nvPr/>
          </p:nvCxnSpPr>
          <p:spPr>
            <a:xfrm>
              <a:off x="585000" y="2544120"/>
              <a:ext cx="2809080" cy="26679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3" name="ZoneTexte 19"/>
            <p:cNvSpPr/>
            <p:nvPr/>
          </p:nvSpPr>
          <p:spPr>
            <a:xfrm>
              <a:off x="2603160" y="1351080"/>
              <a:ext cx="335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Financemen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ZoneTexte 21"/>
            <p:cNvSpPr/>
            <p:nvPr/>
          </p:nvSpPr>
          <p:spPr>
            <a:xfrm rot="2580000">
              <a:off x="419400" y="3892680"/>
              <a:ext cx="273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Contrat De Prestat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ZoneTexte 25"/>
            <p:cNvSpPr/>
            <p:nvPr/>
          </p:nvSpPr>
          <p:spPr>
            <a:xfrm>
              <a:off x="3645000" y="173736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Appui Techniqu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ZoneTexte 26"/>
            <p:cNvSpPr/>
            <p:nvPr/>
          </p:nvSpPr>
          <p:spPr>
            <a:xfrm>
              <a:off x="3020040" y="2448720"/>
              <a:ext cx="274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Pièces Justificativ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7" name="Connecteur droit avec flèche 27"/>
            <p:cNvCxnSpPr/>
            <p:nvPr/>
          </p:nvCxnSpPr>
          <p:spPr>
            <a:xfrm flipH="1">
              <a:off x="5374800" y="2728800"/>
              <a:ext cx="2807280" cy="32076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8" name="ZoneTexte 37"/>
            <p:cNvSpPr/>
            <p:nvPr/>
          </p:nvSpPr>
          <p:spPr>
            <a:xfrm rot="18840000">
              <a:off x="5422320" y="3937320"/>
              <a:ext cx="106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Factu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ZoneTexte 42"/>
            <p:cNvSpPr/>
            <p:nvPr/>
          </p:nvSpPr>
          <p:spPr>
            <a:xfrm rot="18720000">
              <a:off x="5026680" y="4058280"/>
              <a:ext cx="4278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Approvisionnement des comptes après contrôle, suivi/ Supervis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" name="ZoneTexte 21"/>
          <p:cNvSpPr/>
          <p:nvPr/>
        </p:nvSpPr>
        <p:spPr>
          <a:xfrm rot="2580000">
            <a:off x="680760" y="3508200"/>
            <a:ext cx="30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ntrôle conjoint ECD + Hel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69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Méthodologie de mise en œuvre du forfait (1/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émarche de la RA/forfai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teliers d’échanges et de réflexion avec les parties prenant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alcul du montant forfaitaire : moyenne arrondie des coûts réels de 6 CSPS sur 30 mois (Jan09-Juin1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ntroduction progressive ( avec et sans risque financier): 2 groupes de CS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41360" y="2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Méthodologie de mise en œuvre du forfait (2/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172880"/>
            <a:ext cx="8229600" cy="56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ignature de convention entre le tiers payant et les prestataires ( ICP + COG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mptabilisation à partir des registres de consultation/ cahiers de vente journali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aiement mensuel par le tiers pay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ntinuation des contrôles 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a priori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t 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a posteriori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ux niveaux CSPS et communauta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encontres de suiv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Composition du montant forfaitai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Diagramme 16" descr=""/>
          <p:cNvPicPr/>
          <p:nvPr/>
        </p:nvPicPr>
        <p:blipFill>
          <a:blip r:embed="rId1"/>
          <a:stretch/>
        </p:blipFill>
        <p:spPr>
          <a:xfrm>
            <a:off x="212760" y="1127160"/>
            <a:ext cx="8493120" cy="5445000"/>
          </a:xfrm>
          <a:prstGeom prst="rect">
            <a:avLst/>
          </a:prstGeom>
          <a:ln w="0">
            <a:noFill/>
          </a:ln>
        </p:spPr>
      </p:pic>
      <p:sp>
        <p:nvSpPr>
          <p:cNvPr id="87" name="Explosion 2 3"/>
          <p:cNvSpPr/>
          <p:nvPr/>
        </p:nvSpPr>
        <p:spPr>
          <a:xfrm>
            <a:off x="5791320" y="1219320"/>
            <a:ext cx="3352680" cy="2057400"/>
          </a:xfrm>
          <a:prstGeom prst="irregularSeal2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Toutes les patholog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4T22:10:59Z</dcterms:created>
  <dc:creator>paho</dc:creator>
  <dc:description/>
  <dc:language>en-US</dc:language>
  <cp:lastModifiedBy>KABORE</cp:lastModifiedBy>
  <dcterms:modified xsi:type="dcterms:W3CDTF">2015-06-08T18:19:27Z</dcterms:modified>
  <cp:revision>126</cp:revision>
  <dc:subject/>
  <dc:title>PowerPoint Presentation</dc:title>
</cp:coreProperties>
</file>